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0035-1C94-4D5D-A9B4-AF60367B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3864-8763-48A9-AA86-D9D11FC8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2D05-4D34-4325-9D2A-8BF54349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6AAA-6E53-4323-A234-F0CB13E2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1718-8640-4F5B-864B-EA3143D9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499C-EB03-48E0-BF63-E592CE2B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A4CD-DD88-4E02-93E0-CAFF6BED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8C7F-A050-44B0-877F-0D55029F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E335-D0B7-483E-B7D0-C82E0E47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8CB1-F999-443F-A113-66FB79B2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3E32-7920-4A1C-950E-78EF6396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4C89-F8F3-46E9-8AA9-1CEF09CE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810E-E935-49C7-8FCA-630AE106C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6/66/Weisshandgibbon_tierpark_berlin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upload.wikimedia.org/wikipedia/commons/1/18/MattiParkkonen_chimpanze1.jp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upload.wikimedia.org/wikipedia/commons/6/64/Cebus_albifrons_edit.jpg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0/DirkvdM_tamandua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upload.wikimedia.org/wikipedia/commons/0/0d/Laubfrosch_cropped.jp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upload.wikimedia.org/wikipedia/en/f/fa/DSC_1939.jpg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upload.wikimedia.org/wikipedia/commons/4/44/Keel-billed_Toucan-27527.jpg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b/BambooKyoto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4840" y="380880"/>
            <a:ext cx="3224160" cy="3733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File:Weisshandgibbon tierpark berli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1280" y="30492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File:MattiParkkonen chimpanze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320" y="4800600"/>
            <a:ext cx="3298680" cy="4038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File:Cebus albifrons edit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05320" y="4724280"/>
            <a:ext cx="3200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File:DirkvdM tamandu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360" y="76320"/>
            <a:ext cx="2711520" cy="434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File:Laubfrosch croppe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81280" y="228600"/>
            <a:ext cx="3141720" cy="4191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File:DSC 193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2080" y="4648320"/>
            <a:ext cx="2938320" cy="4419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File:Keel-billed Toucan-27527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05320" y="51814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File:BambooKyot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320"/>
            <a:ext cx="2939760" cy="4419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File:Sa-fern.jpg"/>
          <p:cNvPicPr/>
          <p:nvPr/>
        </p:nvPicPr>
        <p:blipFill>
          <a:blip r:embed="rId3"/>
          <a:stretch/>
        </p:blipFill>
        <p:spPr>
          <a:xfrm>
            <a:off x="3733920" y="152280"/>
            <a:ext cx="2842920" cy="4267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File:Zoo Dortmund Faultier.jpg"/>
          <p:cNvPicPr/>
          <p:nvPr/>
        </p:nvPicPr>
        <p:blipFill>
          <a:blip r:embed="rId4"/>
          <a:stretch/>
        </p:blipFill>
        <p:spPr>
          <a:xfrm>
            <a:off x="3524400" y="4648320"/>
            <a:ext cx="3257280" cy="4343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52520" y="4724280"/>
            <a:ext cx="26715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File:Giant Panda 2004-03-2.jpg"/>
          <p:cNvPicPr/>
          <p:nvPr/>
        </p:nvPicPr>
        <p:blipFill>
          <a:blip r:embed="rId1"/>
          <a:stretch/>
        </p:blipFill>
        <p:spPr>
          <a:xfrm>
            <a:off x="361800" y="152280"/>
            <a:ext cx="28386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22790</cp:lastModifiedBy>
  <dcterms:modified xsi:type="dcterms:W3CDTF">2008-12-19T22:34:19Z</dcterms:modified>
  <cp:revision>8</cp:revision>
  <dc:subject/>
  <dc:title>Slide 1</dc:title>
</cp:coreProperties>
</file>